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158E-C447-401B-91BC-E090FC0A1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3A15-F1FB-463B-A316-4892CF82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6AAC-E34D-4890-8DB3-E5523EDE8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0639-390E-4B6F-8BCC-B7D13FAE4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94D4-4C2A-4F74-A320-030C45C0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6477-E29E-48C3-BA32-E29DCF4B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948C-2583-4891-BC04-DFC62FA6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F162-5879-49A3-9168-4B431642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8F1C-7017-402A-B725-A55A17B7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BFA5-9419-4364-9379-CB838816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9AC3-038F-44E6-A530-FE3B17F5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7AEE-E401-4F46-AED8-019528BA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BEDA-92FE-4F4B-8C84-BA0D8A560F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49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3"/>
          <a:stretch/>
        </p:blipFill>
        <p:spPr>
          <a:xfrm>
            <a:off x="154080" y="1484280"/>
            <a:ext cx="873900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324000" y="5300640"/>
            <a:ext cx="856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كون من أهل الن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حبه الله 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نصره الله تعالى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3"/>
          <a:stretch/>
        </p:blipFill>
        <p:spPr>
          <a:xfrm>
            <a:off x="3930480" y="981000"/>
            <a:ext cx="4889520" cy="520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"/>
          <p:cNvPicPr/>
          <p:nvPr/>
        </p:nvPicPr>
        <p:blipFill>
          <a:blip r:embed="rId4"/>
          <a:stretch/>
        </p:blipFill>
        <p:spPr>
          <a:xfrm>
            <a:off x="2720880" y="3125880"/>
            <a:ext cx="6108840" cy="533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"/>
          <p:cNvPicPr/>
          <p:nvPr/>
        </p:nvPicPr>
        <p:blipFill>
          <a:blip r:embed="rId5"/>
          <a:stretch/>
        </p:blipFill>
        <p:spPr>
          <a:xfrm>
            <a:off x="3132000" y="4653000"/>
            <a:ext cx="5829480" cy="57132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324000" y="3789360"/>
            <a:ext cx="8569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به تبتعد عن الإفراط والتفري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عنوان 1"/>
          <p:cNvSpPr/>
          <p:nvPr/>
        </p:nvSpPr>
        <p:spPr>
          <a:xfrm>
            <a:off x="324000" y="1628640"/>
            <a:ext cx="8569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دعاء                                 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صحبة الطيب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محافظة على الفرائض           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طلب العلم الشرعي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248"/>
          <a:stretch/>
        </p:blipFill>
        <p:spPr>
          <a:xfrm>
            <a:off x="233280" y="1773360"/>
            <a:ext cx="8677440" cy="17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6308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8709120" cy="2870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2771640" y="4653000"/>
            <a:ext cx="38484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08000" y="907920"/>
            <a:ext cx="8928000" cy="5834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2" descr=""/>
          <p:cNvPicPr/>
          <p:nvPr/>
        </p:nvPicPr>
        <p:blipFill>
          <a:blip r:embed="rId1"/>
          <a:stretch/>
        </p:blipFill>
        <p:spPr>
          <a:xfrm>
            <a:off x="250920" y="1925640"/>
            <a:ext cx="8604000" cy="4672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2"/>
          <a:stretch/>
        </p:blipFill>
        <p:spPr>
          <a:xfrm>
            <a:off x="250920" y="915840"/>
            <a:ext cx="8713800" cy="85752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39760" y="48690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منهم مؤمن به ومنهم كافر ب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130560" y="1052640"/>
            <a:ext cx="4178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تسلية الرسول صلى الله عليه وسل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39760" y="436572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ور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537372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ميلو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59500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صيبك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sp>
        <p:nvSpPr>
          <p:cNvPr id="58" name="عنوان 1"/>
          <p:cNvSpPr/>
          <p:nvPr/>
        </p:nvSpPr>
        <p:spPr>
          <a:xfrm>
            <a:off x="6948360" y="5440320"/>
            <a:ext cx="1808280" cy="5097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ركنو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هذه الآيات جاءت في سياق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سلية النبي </a:t>
            </a:r>
            <a:r>
              <a:rPr b="1" lang="en-US" sz="19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لتخفيف عنه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إن هذه الآيات جاءت في سياق تسلية النبي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 والتخفيف عنه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جحود قومه لما جاء به من الح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يان أن للنبي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أسوة بمن سلف م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أنبياء قبله فقد أوذوا وكذبوا كما فعل ب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إن الله تعالى يمهل للظالمين والمكذبين فلا يعاجلهم بالعذاب في الدنيا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علهم يرجعون ويتوب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الجزاء الأخروي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تمي لا يتخلف أبد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371628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جزاء الأخروي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جازى المحسن بإحسانه والمسيء بإساء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4149720"/>
            <a:ext cx="8666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ستقامة على دين الله تعالى عقيدة وعبادة وحكماً وأدباً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4653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غلو في الدين وتجاوز ما حد الله تعالى في شرع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5084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يل إلى المشركين ومداهنته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08000" y="5516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إقامة الصلاة والصبر عليها في أوقاتها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08000" y="595008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ثمرات الحسنات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ا تكفر صغائر الذنو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08000" y="63882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كفير الكبائر يكو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توبة إلى الله 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236520" y="981000"/>
            <a:ext cx="8656560" cy="85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236520" y="1967040"/>
          <a:ext cx="8583480" cy="1893600"/>
        </p:xfrm>
        <a:graphic>
          <a:graphicData uri="http://schemas.openxmlformats.org/drawingml/2006/table">
            <a:tbl>
              <a:tblPr/>
              <a:tblGrid>
                <a:gridCol w="4291200"/>
                <a:gridCol w="42922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نواه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أوام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5940360" y="2355840"/>
            <a:ext cx="2857680" cy="425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2916360" y="2346480"/>
            <a:ext cx="1511280" cy="492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452520" y="2924280"/>
            <a:ext cx="3975120" cy="403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4643280" y="2851200"/>
            <a:ext cx="4105440" cy="463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"/>
          <p:cNvPicPr/>
          <p:nvPr/>
        </p:nvPicPr>
        <p:blipFill>
          <a:blip r:embed="rId8"/>
          <a:stretch/>
        </p:blipFill>
        <p:spPr>
          <a:xfrm>
            <a:off x="7591320" y="3384720"/>
            <a:ext cx="113040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250920" y="1700280"/>
            <a:ext cx="86360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دليل : قو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1" descr=""/>
          <p:cNvPicPr/>
          <p:nvPr/>
        </p:nvPicPr>
        <p:blipFill>
          <a:blip r:embed="rId3"/>
          <a:stretch/>
        </p:blipFill>
        <p:spPr>
          <a:xfrm>
            <a:off x="138240" y="907920"/>
            <a:ext cx="8748720" cy="750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"/>
          <p:cNvPicPr/>
          <p:nvPr/>
        </p:nvPicPr>
        <p:blipFill>
          <a:blip r:embed="rId4"/>
          <a:stretch/>
        </p:blipFill>
        <p:spPr>
          <a:xfrm>
            <a:off x="2284560" y="2421000"/>
            <a:ext cx="66024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9T07:35:47Z</dcterms:modified>
  <cp:revision>1999</cp:revision>
  <dc:subject/>
  <dc:title>عرض تقديمي في PowerPoint</dc:title>
</cp:coreProperties>
</file>